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32D0-87EA-42A4-B4BF-70D0EDF181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044B5-74F1-4DD4-975D-07C424FF66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65FD-AEE9-4D8C-B665-6D315A4C8A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2799-2313-4D18-8A0B-3AF57A2A7A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F8DCC-72BE-44A6-ABBB-AE30D69556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EEEA-E084-4022-A9C5-DA1A539816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0AE67-450B-4DA8-BEB1-550CFEB61C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DF11-0646-498D-B97D-0257EC8A0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2BAC-1260-4ACD-ACFC-A6261B27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6B39-D5B7-44BA-90D3-C79E794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7C7A-DE1E-41EF-83A6-8948C8097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0703-9275-4D19-9B50-C4AAB444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6C70-C178-4C06-AA02-AF7CF852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8EA2-22AC-4E21-BF25-55FB1C81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FE6B-C611-4227-8498-DA82E302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6650-0F5C-43C9-AA83-51D09752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9D7D-2F4A-4B99-B21E-DAA799F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393C-A455-4BA3-B3DD-93BE4FD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1A03-0E97-45A1-AB79-84BEED1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0B4263-D2D6-4F18-A3C9-788A4ED7110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ITOSFERA Y PLAC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itosfera y cap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900000" y="3492360"/>
            <a:ext cx="5399280" cy="288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934920" y="1274760"/>
            <a:ext cx="7524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tosfera está formada por la corteza y la parte superior del manto, es decir, toda la zona formada por rocas ríg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grosor es muy variable, desde unos 70 km en los océanos hasta 200 km en contin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stinguen, por tanto ,la litosfera continental y la litosfera oceán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é es la lit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875640" y="4392720"/>
            <a:ext cx="107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932520" y="476892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to ríg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7559640" y="43927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7920000" y="4390560"/>
            <a:ext cx="180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7559640" y="52927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920000" y="4680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140360" y="2924280"/>
            <a:ext cx="126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1116000" y="2997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 oceá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22 Conector recto"/>
          <p:cNvSpPr/>
          <p:nvPr/>
        </p:nvSpPr>
        <p:spPr>
          <a:xfrm>
            <a:off x="6012000" y="5013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onector recto"/>
          <p:cNvSpPr/>
          <p:nvPr/>
        </p:nvSpPr>
        <p:spPr>
          <a:xfrm>
            <a:off x="5508720" y="45813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5 Conector recto"/>
          <p:cNvSpPr/>
          <p:nvPr/>
        </p:nvSpPr>
        <p:spPr>
          <a:xfrm flipV="1">
            <a:off x="5076720" y="34290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8 Conector recto"/>
          <p:cNvSpPr/>
          <p:nvPr/>
        </p:nvSpPr>
        <p:spPr>
          <a:xfrm flipV="1">
            <a:off x="1979640" y="3573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itosfera y cap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971640" y="1268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tosfera no es continua, sino que se encuentra fragmentada en una serie de trozos que se denominan placas litosféricas o placas tectón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ordes de estas placas se identifican fácilmente porque coinciden con relieves geográficos tales como fosas, grandes cordilleras, dorsales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lacas litosfé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Agrupar 1"/>
          <p:cNvGrpSpPr/>
          <p:nvPr/>
        </p:nvGrpSpPr>
        <p:grpSpPr>
          <a:xfrm>
            <a:off x="1476360" y="2679840"/>
            <a:ext cx="6551640" cy="3714480"/>
            <a:chOff x="1476360" y="2679840"/>
            <a:chExt cx="6551640" cy="3714480"/>
          </a:xfrm>
        </p:grpSpPr>
        <p:pic>
          <p:nvPicPr>
            <p:cNvPr id="90" name="Picture 8" descr=""/>
            <p:cNvPicPr/>
            <p:nvPr/>
          </p:nvPicPr>
          <p:blipFill>
            <a:blip r:embed="rId2"/>
            <a:stretch/>
          </p:blipFill>
          <p:spPr>
            <a:xfrm>
              <a:off x="1476720" y="2679840"/>
              <a:ext cx="619056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9"/>
            <p:cNvSpPr/>
            <p:nvPr/>
          </p:nvSpPr>
          <p:spPr>
            <a:xfrm>
              <a:off x="2196360" y="3285000"/>
              <a:ext cx="126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norteame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5146920" y="351180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euroasiát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320000" y="477036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f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3096000" y="4789440"/>
              <a:ext cx="126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sudame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13"/>
            <p:cNvSpPr/>
            <p:nvPr/>
          </p:nvSpPr>
          <p:spPr>
            <a:xfrm>
              <a:off x="4500720" y="590544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ntárt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1656360" y="50403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l Pacíf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5"/>
            <p:cNvSpPr/>
            <p:nvPr/>
          </p:nvSpPr>
          <p:spPr>
            <a:xfrm>
              <a:off x="6948720" y="45309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l Pacíf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5435640" y="5184720"/>
              <a:ext cx="161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ustraliano-ind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7"/>
            <p:cNvSpPr/>
            <p:nvPr/>
          </p:nvSpPr>
          <p:spPr>
            <a:xfrm>
              <a:off x="1476360" y="4041720"/>
              <a:ext cx="90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Juan de Fu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H="1">
              <a:off x="1839600" y="396396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 flipV="1">
              <a:off x="1841400" y="3962160"/>
              <a:ext cx="1440" cy="15372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1763640" y="447372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 flipH="1">
              <a:off x="2352240" y="465012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22"/>
            <p:cNvSpPr/>
            <p:nvPr/>
          </p:nvSpPr>
          <p:spPr>
            <a:xfrm>
              <a:off x="2484360" y="49413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Naz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23"/>
            <p:cNvSpPr/>
            <p:nvPr/>
          </p:nvSpPr>
          <p:spPr>
            <a:xfrm>
              <a:off x="2406960" y="5681520"/>
              <a:ext cx="1014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 Scot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H="1">
              <a:off x="2991240" y="588024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25"/>
            <p:cNvSpPr/>
            <p:nvPr/>
          </p:nvSpPr>
          <p:spPr>
            <a:xfrm>
              <a:off x="7020360" y="3861000"/>
              <a:ext cx="539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filipi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 flipH="1" flipV="1">
              <a:off x="6733080" y="4419360"/>
              <a:ext cx="577440" cy="1260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 flipV="1">
              <a:off x="7309080" y="4232160"/>
              <a:ext cx="1440" cy="19980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5004360" y="4113360"/>
              <a:ext cx="7203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árab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5:55Z</dcterms:modified>
  <cp:revision>49</cp:revision>
  <dc:subject/>
  <dc:title>Diapositiva 1</dc:title>
</cp:coreProperties>
</file>